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229F-7790-4934-85F1-04A938F29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383D-2B07-4926-9E1E-4732D4EC5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6417-2538-40E1-A5A7-066198138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D4F2-8E8F-468C-A624-675278907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B96A-3831-4828-B4D2-BBCE53465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4FFA-6272-44C1-8CE3-3F9802481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0235-80E7-4E9D-9A01-E5B1AB06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CD41-580F-4C50-B5C4-72B2488BE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8EE7-FD26-40D2-BDDD-C370852AE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0D3B-81FE-4D4F-B0AA-0AF4342D0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227B-1C64-44DD-864A-1E2168020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E3B1-A94D-4206-91C6-CA6011B71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EECA-BB56-4DCB-B39A-3B8844697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1DE5-6116-4753-A4D6-59955E7FA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DB74-FB44-42D0-AA3C-CB36BBCDD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0BB1-67FC-4FA2-B609-92630CE7E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D71D-E976-4549-BAE0-3B381457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6C21-A85A-4A20-8F19-C27DCD37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5860-E5A4-40B7-AE8F-A6F29D204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502F-6DE0-4E92-A3B4-9F3E05009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8A1F-1D32-4055-9D99-933145545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6A13-6218-4503-9BCF-05FE90533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DB96-3388-47DA-8527-5D0BAA2DF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F807-B2C3-42B5-8A8B-F82989D4B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2B1A-50F7-4B0C-9795-F7A93C834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0EF9-6C63-4CE5-A710-ED4326FDE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E6B2-5B93-49C1-8370-817FBC892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FBFE-5CB4-4101-8D33-81BD147EC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F136-8F02-48A0-8D65-0AE39A106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0B5E-47DB-47E2-8626-F28C547E6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25C7-F0E3-487E-BF28-3FAEE3E9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A5DB-2884-439B-967B-C8FBED954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66B-B64A-4801-971E-3580E79F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4E6-0A8E-43F2-B08D-2B04EB7B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10F-EC9D-4E76-BAE7-2813F8BD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655-9BF3-4921-9D6A-E6E051F8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A5F3-2CFE-4957-BF11-B542C86D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813D-76FD-4515-8535-6947D70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2E8A-0F00-4A47-91A9-F18B461A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CF00-53E1-4BDB-AC08-3D729EDA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0DC6-1BFA-441C-A356-C9712AAD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4331-B976-4DD0-8198-6269A1FB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7A53-836C-4E6C-976A-0A61A2C2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7AE-0E57-4EAC-8A8E-E0F80E86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7971-45CD-44A4-895F-B49AC517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1B1D-DCAD-4781-A899-959C053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D79E-70CF-49C0-8408-6E584E93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CE48-6614-4791-B89E-64ED7A7F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F65F-EC13-4F5F-82F4-97B69260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F47-ABF9-43A7-AFE1-82B4DD5D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87B-B000-4E1E-A306-5CB8C971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CDF-8C10-4EB7-9C34-0902847E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C9C-AA83-44BB-A869-DBF2CF1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847-3F92-4239-AC34-A835570F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42E-E4E8-4FA6-8515-BBCAC833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A65-FFE3-42E2-B140-246C6F2F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94D0-3F77-465F-925D-87321E499E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9B8B-7F14-4EAC-B38C-876C0824FC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hool-Based Budget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, Spending, &amp;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952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cisions in an autocratic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teachers and other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school-based management council consisting of parents, teachers, community members, classified employe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t Princip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d in planning, spending, and controlling local budgetary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/control expenditures within income allocated to purchase music, instruments, uniforms, transportation cos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etic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an individual as budget manager for area of athl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costs related to athletic programs (transportation, coach salaries, officials, uniforms, ticket takers, police, ambulance, doctors, and other expenses for meals and lodgings for athletes and coa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920" y="1599840"/>
            <a:ext cx="624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/Department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manager for grade level o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rvice Director, Director of Custodial &amp; Maintenanc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central office staff in determining the needs for their area and make these persons responsible for purchases within the budgeta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/Cert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n integral, important voice in all aspects of budgetary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and supplies necessary to do their support roles efficiently and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Office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on newly available curriculum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funds, controls expenditures, and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a relationship that is interactive, positive, and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ntendent of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Board of Ed. to approve school site-bas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the cooperation of all centr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ing the decisions made at the build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or, innovator, cheerleader, and defender of site-based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ormal approval to move to a site-bas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 community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Improvement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 Education Reform Act of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fairness in schools-base decisions which includes school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eds Assessm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tep in defining a gap or discrepancy between what is and what should or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all school build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eac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s to meet identifi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end products/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lationships between Central District &amp; Building Site Leve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p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ary al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u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sions made for Building Site Lev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ite-base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District Office base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budgetary decision making between the school site and central school distric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sions Related to: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and placement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Planning &amp;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level- matters most directly affecting local school’s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level-Employee benefi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entral &amp; Site Leve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ion the board of education to make exceptions or waivers to policies or standard operating procedures for just 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eder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-through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ing Iss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ing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budgets-up to 5 years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# of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ort survival method of pupi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Employee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# of students with exact programs they will at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, Supplies, Material,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due to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eds Assess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ctivity to take place for future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mployees take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gaps between what is and what sh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e identified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action programs to eliminate existing 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 Expendit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ing Accounting &amp; Budget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legally overexpend its availabl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ions, transfers, expenditures, encumbrances, &amp; unemcumbered balances should be accurately recorded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 Expendit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uditor or Auditing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 on the state of the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to the board of education concerning its accounting records &amp;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sic Functions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and resourc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of federal, state, and local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s a gap or discrepancy between what is and what should or could 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st of Identifi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ng the cost of each identified need for next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’s Actions Related to Each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specific program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with immediate program or budget adjustments made to satisfy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when funding is mad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Studen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students enrolled in each grade for 11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subsequent year’s number of students by previous years’ and grades’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verage percentage of survival for the 10 historica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average % of survival against each previous year to determine the number of students in each future year for each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ng Employee Requirements (5 yrs. Fu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ojections of student population to determine employees needed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do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Income Requirements (5 years into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# of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employees needed in each categ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xpenses of schoo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estimate for operating th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DETERMINE income required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y of a minimum millage (mill=.001cents) or dollars per hundred dollars of assessed valuation in order to receive state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School District and School Site-Based Budget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ture of parents, citizens, teachers,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 evaluated and revis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ing th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budget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 for use to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-2 week period in summer &amp; update by Principal and Central Office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School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ilding Level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ster groups (Clu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ra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3 Keys to Effective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ary Plann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education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nticipat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income to programs/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highest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3 Keys to Efficient Budge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-Gener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Management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Activity Income Collection, Accounting, and Depo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ing Bills to Collect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Sum Budge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and Audi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ypes of Budgeting System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/Object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s are entered under a coded bas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, Planning, Budgeting, Evaluating System (PPB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Based Budg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 every expenditure requested on the basis of a projected cost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ypes of Budgeting System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-Based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decision-making power to the level closest to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a variety of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-Sum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all persons responsible for budget matters accountable for expenditures decisions and for keeping those decisions within the amount of money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allowing flexibility of expenditure decisions throughout the fisc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</dc:creator>
  <dc:description/>
  <dc:language>en-US</dc:language>
  <cp:lastModifiedBy>Jim</cp:lastModifiedBy>
  <dcterms:modified xsi:type="dcterms:W3CDTF">2014-09-04T23:06:39Z</dcterms:modified>
  <cp:revision>33</cp:revision>
  <dc:subject/>
  <dc:title>PowerPoint Presentation</dc:title>
</cp:coreProperties>
</file>